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BB89-FE89-4B7A-8901-C04D2582BF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BBF4-5DB1-4BD5-8DA9-BE7B02D0E2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B76-E342-48EB-92AB-B1F231F3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154A-4EE0-4A4C-8878-7088B864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4B8-2E40-4172-949C-1E6CD62E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9B3-AC31-4B88-B474-6F286D47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4F98-00BC-46C4-847D-BC70DFC4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4E22-EEAB-4B25-94A9-C38DC793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7497-C196-429E-A67D-6DBBEF5F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D7DC-4F45-453B-B295-BCFE6685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3CF6-29FA-4AA7-8F96-B2819A9F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B2A5-213B-4BC8-AD73-FD4AEDFC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4801-3068-44AD-91BA-A99E8619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D04-71F9-4626-BB57-10E82A68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A574-9545-42C0-A3B0-E2678BFA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2DDC-3D3C-4383-846E-383C8378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3D3F-E3AD-4EA9-9683-98281078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FF8E-B1FC-4FE3-9842-82FBCC03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62F1-4842-44F9-A67F-7C7E94CE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85BEE-7734-4BCE-A6FB-58C41C9F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92432-7EBD-4C22-9224-C182FAA1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C6326-AAD9-49E5-BC47-2CF5A4D0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F545C-D4D9-4ABD-9396-C2B912A9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FDECB-FF85-4ADB-978D-9898FDD9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A0B-09A8-47F3-A5FB-6BB2821C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9A3C7-18A4-47FE-93D3-EA585B36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29B12-27C5-4BC3-8677-87BF2552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04594-9BC3-4BDF-923D-0BB8A641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5A27C-D384-4BA0-B0B0-137C3DFC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06E05-9379-4F81-88D1-3911D904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22C12-33A8-455A-9E44-FDECFC30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0C37C-F134-4CEB-86FA-345BCE10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82E08-CAE6-445B-A9E2-8C9C214C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F33A7-07E9-4B6A-B4CB-E10C76AD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80789-E60E-4C74-9260-CB9291C0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210-DE13-483C-8B5A-AEF1BDB9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C5646-1E29-4DA3-9969-25554F94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B9B0C-E01A-44F9-BC1C-EC3935BB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3E3CC-8052-4305-93D7-E64107EB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9E15B-E34F-40D1-A4BF-C2C7B65A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B0260-CBAA-4195-8278-26E60272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614FB-7775-4ECA-B651-DC92B92E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85739-072C-4D3B-BA65-CE9438E8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F4CF5-394B-422E-AA53-8955EC45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D7B50-6722-4EF2-B33D-12C9E296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E01A7-890F-48ED-839F-EAD4C8B7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254-1B6F-4D18-8D18-817BF8B6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0D829-193F-48F4-BA96-24E166C3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D8611-A70C-425B-A8C1-8F653040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B3302-03E6-42DD-ADF9-3A52BCBF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4C097-21A8-461B-8E06-F31B3D54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C3952-8067-4D0F-99A6-B320DC04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6F2C0-89EB-472E-9821-9C488B98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0696C-B44D-41C6-9327-4301C3DC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09E86-FF0E-450A-8A46-8AB39D34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C8639-98D4-47D8-B63C-236D5062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F7F52-6474-4666-936E-EDBB65A45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F11-81FE-42C4-BE4E-F0D8F8F3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0E1F5-4F48-4FC1-AE56-F1B70FF2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967A-F6F2-4494-B1F5-750D9371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20C-3A8A-4A45-9AB3-513859EB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751F-C9AC-4E30-A054-9280A5D6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A89E-AA5B-4CF0-BED6-108B64706D2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5992-B00D-418E-BDED-07A61E8B1D4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CBB4-C1BF-4F35-AAD7-94412B97A62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E962-9F92-4306-826A-01BD0B9E9F0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D173-8C82-48A0-95DE-62ACD0DA5E1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500040" y="-39672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изонить\30 декабря -1 января «Звезда»\0871c417189d455c4f263f56f582de2f--string-pictures-stringart.jpg"/>
          <p:cNvPicPr/>
          <p:nvPr/>
        </p:nvPicPr>
        <p:blipFill>
          <a:blip r:embed="rId2"/>
          <a:stretch/>
        </p:blipFill>
        <p:spPr>
          <a:xfrm>
            <a:off x="1692360" y="1052640"/>
            <a:ext cx="528948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«Звезда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C:\Users\79995\Desktop\изонить\30 декабря -1 января «Звезда»\0871c417189d455c4f263f56f582de2f--string-pictures-stringart.jpg"/>
          <p:cNvPicPr/>
          <p:nvPr/>
        </p:nvPicPr>
        <p:blipFill>
          <a:blip r:embed="rId1"/>
          <a:stretch/>
        </p:blipFill>
        <p:spPr>
          <a:xfrm>
            <a:off x="0" y="1125360"/>
            <a:ext cx="4782960" cy="5023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C:\Users\79995\Desktop\изонить\30 декабря -1 января «Звезда»\String-art-star-design.jpg"/>
          <p:cNvPicPr/>
          <p:nvPr/>
        </p:nvPicPr>
        <p:blipFill>
          <a:blip r:embed="rId2"/>
          <a:stretch/>
        </p:blipFill>
        <p:spPr>
          <a:xfrm>
            <a:off x="4640400" y="2565360"/>
            <a:ext cx="45036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«Звезда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C:\Users\79995\Desktop\изонить\30 декабря -1 января «Звезда»\izonit_zvezda_shema_5.jpg"/>
          <p:cNvPicPr/>
          <p:nvPr/>
        </p:nvPicPr>
        <p:blipFill>
          <a:blip r:embed="rId1"/>
          <a:stretch/>
        </p:blipFill>
        <p:spPr>
          <a:xfrm>
            <a:off x="0" y="1268280"/>
            <a:ext cx="9288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C:\Users\79995\Desktop\изонить\30 декабря -1 января «Звезда»\izonit_zvezda_shema_22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27T08:50:35Z</dcterms:modified>
  <cp:revision>39</cp:revision>
  <dc:subject/>
  <dc:title>ТВОРЧЕСКАЯ ДЕЯТЕЛЬНОСТЬ: ЗНАКОМСТВО С ТЕХНИКОЙ ИЗОНИТЬ</dc:title>
</cp:coreProperties>
</file>